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E05-7651-4C5E-85F9-559E7DAEA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9ED5-3D76-4912-A331-244FDA43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9F2-2338-4A0F-AF96-0D229331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FF0-B196-4E4E-AD34-78ADA2D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2D9-1A4E-4D38-AF31-9B4EA0E6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2CB-B2FE-4160-8562-8434F865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5F49-C169-43D9-9E7C-636C4FCA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0F5D-2448-464C-9029-A76C9AE6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720-8B4D-4BDC-98FF-DBA10F0B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47A0-4FAA-467A-B56A-DAA1FCD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44CD-77A5-4B11-9DCC-818036A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7D70-9C8B-4C90-8711-B607745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9762-02E7-417C-9031-CBCEEC9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F12-FCB5-4DD2-9645-FF5939A6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9C3C-B804-4123-A4FF-679ADD9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A1A5-EDD9-4043-B891-E7773DC2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5B3-0AC1-4096-9612-2BDB9071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45E-A8F9-4592-A7B5-7A4C3E01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DCC6-E27D-4483-ACB4-B4C3A505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74A7-8E1B-4192-8600-FDD3D599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BB3E-2E6D-4D6F-8CBB-628FB36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3560-6F7F-4398-8F30-E105331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C116-BFA6-4853-BAB9-5C88169D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8A3F-1111-4B0F-A8C2-E37E794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8BE-6B81-4DBF-A9A2-2D75C812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5ECE-4A57-4FF2-A5D2-C9DC226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5520-2737-465C-AA10-EEE3E37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9B59-45D0-4224-8440-852E899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77D1-AB31-46C8-A245-055406B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0C48-E1DC-400E-B163-EB4EEAE8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47DF-2573-4BDF-99EF-D25DADA3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C0C1-8C7A-43C4-93DE-F40CC7DD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C5DC-42A3-4847-80F8-066335DE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F8FF-86CC-4D0D-A81B-59E9D1A4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59EE-92FD-4C56-A986-6AF6C652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093-1EBF-44DF-852F-90553E7A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0A63-7EB7-467B-B13D-9AE0A43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3CCA-0649-4F06-8A9F-9C7ECEBF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9A55-17D7-4900-BE9D-BF082739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2273-5B37-457D-AD6D-0CFA534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9D63-83D6-4160-B52B-1A2AD63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14536-E632-4F72-B4CC-3BEE05C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202C-DAFD-4885-8067-C67EBA25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E10E-406D-42E5-A02C-E3E4DF4E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FF801-C677-48CA-B384-36BD5CC4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902-853F-46AF-A649-CD843FC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2F3-B63F-4B2C-AE06-096157E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DEF-0FC9-4834-909C-DD4E730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738-894E-4051-B676-3EEF6ED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5F0-06BC-48FA-8B9D-82BD378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2334-57AA-45CE-B1BC-1CBFE62467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97B9-AD13-4D97-8347-93BF9FD8A9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9AE3-7D87-4F28-A765-D47F8E8D8BE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E13-07BB-4396-B27D-891100F79D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sites.google.com/a/maine207.org/biology/u2_dna_gene/u2_videos_anima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d700"/>
                </a:solidFill>
                <a:latin typeface="Arial"/>
                <a:ea typeface="Arial"/>
              </a:rPr>
              <a:t>СИНТЕЗА ПРОТЕИНА- ТРАНСКРИП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2" descr=""/>
          <p:cNvPicPr/>
          <p:nvPr/>
        </p:nvPicPr>
        <p:blipFill>
          <a:blip r:embed="rId1"/>
          <a:stretch/>
        </p:blipFill>
        <p:spPr>
          <a:xfrm>
            <a:off x="685800" y="2722680"/>
            <a:ext cx="3106800" cy="3396960"/>
          </a:xfrm>
          <a:prstGeom prst="rect">
            <a:avLst/>
          </a:prstGeom>
          <a:ln w="0">
            <a:noFill/>
          </a:ln>
        </p:spPr>
      </p:pic>
      <p:pic>
        <p:nvPicPr>
          <p:cNvPr id="225" name="Content Placeholder 5" descr=""/>
          <p:cNvPicPr/>
          <p:nvPr/>
        </p:nvPicPr>
        <p:blipFill>
          <a:blip r:embed="rId2"/>
          <a:stretch/>
        </p:blipFill>
        <p:spPr>
          <a:xfrm>
            <a:off x="4952880" y="2556000"/>
            <a:ext cx="3364200" cy="37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525600" y="1104840"/>
            <a:ext cx="8466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м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ћу протеина терминације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ho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фак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амо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Новостворена иРНК није стабилна и биолошки функционал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транскрибовања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атке секвен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дификованих нуклеотида назване </a:t>
            </a:r>
            <a:r>
              <a:rPr b="0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CA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 додају на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5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помоћу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7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G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логу у повезивању иРНК за рибозо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терминације н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специјална полимераза додаје  око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уклеотида аден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формирајући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poly 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ре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 улогу у изласку и даљој обради зреле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Eukaryotic posttranscriptional process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имација транскрип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sites.google.com/a/maine207.org/biology/u2_dna_gene/u2_videos_anim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је п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оцес преписивањ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не секвенце ДНК на РНК (иРНК, тРНК, р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вија се </a:t>
            </a:r>
            <a:r>
              <a:rPr b="0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у јед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код еукариота  је слич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и код прокарио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а разлике су следећ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оне јединице су моноцистронск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695840" y="2286000"/>
            <a:ext cx="4457520" cy="2757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rcRect l="23047" t="23440" r="6640" b="7510"/>
          <a:stretch/>
        </p:blipFill>
        <p:spPr>
          <a:xfrm>
            <a:off x="114480" y="2057400"/>
            <a:ext cx="4457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еукариота је дисконтинуиране грађе</a:t>
            </a: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12499" r="0" b="0"/>
          <a:stretch/>
        </p:blipFill>
        <p:spPr>
          <a:xfrm>
            <a:off x="1143000" y="1876320"/>
            <a:ext cx="644364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типа РНК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мера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а почета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је неопходно учешће транскрипционих фак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. За време транскрипције и после ње врши се процесинг (посттранскрипциона модификација 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1098720" y="1506600"/>
            <a:ext cx="694656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Ензим РНК полимера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424240"/>
            <a:ext cx="4876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ело ензим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 састоји од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четири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убјединице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актор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је лабавом везом повезан са телом ензима и заједно чине холоенз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Content Placeholder 5" descr=""/>
          <p:cNvPicPr/>
          <p:nvPr/>
        </p:nvPicPr>
        <p:blipFill>
          <a:blip r:embed="rId1"/>
          <a:stretch/>
        </p:blipFill>
        <p:spPr>
          <a:xfrm>
            <a:off x="5105520" y="2347920"/>
            <a:ext cx="3886200" cy="1728720"/>
          </a:xfrm>
          <a:prstGeom prst="rect">
            <a:avLst/>
          </a:prstGeom>
          <a:ln w="0">
            <a:noFill/>
          </a:ln>
        </p:spPr>
      </p:pic>
      <p:pic>
        <p:nvPicPr>
          <p:cNvPr id="218" name="Content Placeholder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019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609480" y="3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240" y="20574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познавање и повезив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РНК полимераз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мо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rcRect l="52709" t="10000" r="5768" b="7150"/>
          <a:stretch/>
        </p:blipFill>
        <p:spPr>
          <a:xfrm>
            <a:off x="4876920" y="1295280"/>
            <a:ext cx="356868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676160" y="796680"/>
            <a:ext cx="4724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753240" cy="473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9-10-01T13:13:49Z</dcterms:modified>
  <cp:revision>179</cp:revision>
  <dc:subject/>
  <dc:title>2-Humani genom</dc:title>
</cp:coreProperties>
</file>